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E69-2ED5-459F-B649-F01DE2AB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ED5-6648-4109-8A90-F268E052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E49-DD95-4257-83A5-BD362116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695-388A-438D-B9E9-693E6B81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D53-3FB8-416E-818B-3755A77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51B-C3DD-4B43-AE24-6816E66D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BCD-245E-47B8-B010-7D733BA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DF6-0ED2-4C8B-966F-37268EBE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37F-C85A-44F4-9589-7EC144E8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EE0-D621-4F0D-90DD-0FCF282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2A2-39D3-4F77-A20A-19015E4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377-AE87-4859-B90D-04B6233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544-7445-4589-A03D-161391B73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Nuclear Reactions </a:t>
            </a:r>
            <a:br>
              <a:rPr sz="5400"/>
            </a:br>
            <a:br>
              <a:rPr sz="54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hapter 19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00E-828A-4D7A-A9F5-51DDFD0855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radionuclides in a sample decay a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ngth of time it takes one-half the radionuclides to decay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f-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though the number of radionuclides changes, the length of time it takes for half of them to decay does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lf-life of a radionuclide i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adionuclide has its own, unique half-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onuclide with the shortest half-life will have the greater number of decays per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samples of equal numbers of radioactive 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229-8070-4D47-BD65-8542A9BDEC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of the radioactive atoms decay each half-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351160" y="2146320"/>
          <a:ext cx="4735440" cy="38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2146320"/>
                    <a:ext cx="473544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DC1-E6DF-4BEE-A0F5-15B744606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rder rate reaction as we’ve done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 = 0.693/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n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X  =  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 measured in Bequerels (Bq), number atoms decaying per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measured in curies (Ci) 3.700 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toms per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F8F-4261-495B-9DF4-51A9A3A306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ject Dat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eral (geologi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the amount of U-238 to Pb-2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amount of K-40 to Ar-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eological (once living materi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the amount of C-14 to C-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14 radioactive with half-life = 5730 y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living, C-14/C-12 fairly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air ultimate source of all C in 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chemistry keeps producing C-14 at the same rate it dec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dies, C-14/C-12 ratio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 up to 50,000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F96-926C-4BBE-8EC4-AB4D8261ED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Radioisotopes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9791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trac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organs absorb most or all of a particular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easure the amount absorbed by using tagged isotopes of the element and a Geiger cou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radioisotope with short half-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radioisotope low ioni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a or ga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7CE-4CC5-4D0D-A009-612573D9D8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ss energy rel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ergy change in a nuclear reaction can be determined by finding the change in mass and multiplying by the speed of light squ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the change in mass use products – reactants.  Use the masses in amu from Table 19.3 (can’t use periodic table because these are average atomic m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binding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ucleus weighs less than the protons and neutrons it is composed of.  The difference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ss def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energy change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inding energy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E=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f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FE9-9DD8-46D2-A46F-7CF63792E3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Nuclear Chang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ew nuclei are so unstable, that if their nucleus is hit just right by a neutron, the large nucleus splits into two smaller nuclei - this is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nuclei can be accelerated to such a degree that they overcome their charge repulsion and are smashed together to make a larger nucleus - this is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h fission and fusion release enormous amounts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66A-F098-4F7E-A526-D31B302F6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ssionable Materi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sionable isotopes include U-235, Pu-239, and Pu-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uranium is less than 1% U-2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 mostly U-2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nough U-235 to sustain chai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sion produces about 2.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/mol of U-2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 million times the energy of burning 1 mole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duce fissionable uranium the natural uranium must 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rich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U-2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683-0C00-48F7-8840-9F0AFF86D7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ssion Chain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in rea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ccurs when a reactant is also a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 the fission process it is the neutr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nly need a small amount of neutrons to keep the chain go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the neutrons produced in the fission are either ejected from the uranium before they hit another U-235 or are absorbed by the surrounding U-2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amount of fissionable isotope needed to sustain the chain reaction is called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D8B-DFDE-4A78-B7C2-A5DD579FDF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ar Power P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400" y="1447560"/>
            <a:ext cx="8881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ission of U-235 or Pu-240 to make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picked up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ol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ransferred to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boiler the heat boils water, changes it to steam, which turns a turbine, which generates electr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ssion reaction takes place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ctor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640-9050-49F6-9D25-F6C3B318C6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cts About the Nucle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mall volume compared to volume of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entially entire mass of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d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ed of protons and neutrons that are tightly hel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cle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atom of an element has the same number of pr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topes are atoms of the same elements that have different m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numbers of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= number of protons +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6BF-05ED-4195-A017-1B5576220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ar Power Plants - Co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ssionable material is stored in long tubes arranged in a matrix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el r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cri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 fuel rod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ol ro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de of neutron absorbing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 and/or 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trons needed to sustain the chai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ods are placed in a material used to slow down the ejected neutrons called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chain reaction to occur below critic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963-71D7-42FB-81FD-0AECBA3237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reeder Reac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common in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its own fuel by converting U-238 to Pu-2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iquid sodium as a mod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water filled radiator to transfer heat to bo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highly toxic and spontaneously combusts in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137-DD13-40F3-85D5-9480799C08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ar F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process of combining two light nuclei to form a heavier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comes from fusion of hydrogen to produce 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s more energy per gram than f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high temperatures and large amounts of energy to initiate, but should continue if you can get it sta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E5A-EFF4-48A5-94A2-5FA7200667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ctors that Determin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iological Effects of Radi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more energy the radiation has the larger its effect can 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better the ionizing radiation penetrates human tissue, the deeper effect it can ha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ma &gt;&gt; Beta &gt; Alp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more ionizing the radiation, the more effect the radiation h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&gt; Beta &gt; Ga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radioactive half-life of the radionucl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biological half-life of the el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hysical state of the radioactive mate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amount of danger to humans of radiation is measured in the uni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CA6-EFFE-4217-88F3-CA426CE58E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atic Damag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atic Dama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damage which has an impact on the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ness 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seen immediately or in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 the amount of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ure effects include can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B9F-2D6D-4943-9C5F-24903D2B34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tic Damag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amage occurs when the radiation causes damage to reproductive cells or organs resulting in damage to futur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CE6-9867-4A43-9FE4-1E213082E6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C3C-42BF-403E-9678-DC2EA1A132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422-88A7-4BB8-8166-213EE06334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68C-6EFC-4232-8719-66BB46DC22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E0F-DE74-45AC-B2B5-1DD0C84942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cts About the Nucle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8160" y="1117440"/>
            <a:ext cx="8651880" cy="38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neutrons is calculated by subtracting the atomic number from the mass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us of an isotope is called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c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han 10% of the known nuclides are nonradioactive, most a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dionuc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uclide is identified by a 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 -Mass Number = X-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76520" y="5181480"/>
                <a:ext cx="48132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atomic number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ss numbe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Element </m:t>
                    </m:r>
                    <m:r>
                      <m:t xml:space="preserve">=</m:t>
                    </m:r>
                    <m:sPr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C9C-C149-448A-A475-56A15ABFF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27F-13B3-4E02-A4F4-DECD00EEC3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oactiv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adioactive nuclei spontaneously decompose into smaller nuclei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say that radioactive nuclei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composing involves the nuclide emitting a particle and/or energ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uring radioactive decay, atoms of one element are changed into atoms of a different el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order for one element to change into another, the number of protons in the nucleus must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nuclides with 84 or more protons are radio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e describe nuclear changes with using nuclear equation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s and mass numbers are con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DD5-E343-493E-88A2-B8093960D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pha deca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ticle contains 2 protons and 2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f an alpha particle m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 decreases by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decreases by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76920" y="1447920"/>
                <a:ext cx="38988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 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5800" y="2743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eta dec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ticle is like an 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ng much f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nd in 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 atom loses 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ticle 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 increases b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remains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beta decay a neutron changes into a 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876920" y="3809880"/>
                <a:ext cx="36655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 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187960" y="1554120"/>
            <a:ext cx="142920" cy="214200"/>
          </a:xfrm>
          <a:custGeom>
            <a:avLst/>
            <a:gdLst/>
            <a:ahLst/>
            <a:rect l="l" t="t" r="r" b="b"/>
            <a:pathLst>
              <a:path w="397" h="596">
                <a:moveTo>
                  <a:pt x="14610" y="4390"/>
                </a:moveTo>
                <a:cubicBezTo>
                  <a:pt x="14610" y="4365"/>
                  <a:pt x="14610" y="4341"/>
                  <a:pt x="14610" y="4316"/>
                </a:cubicBezTo>
                <a:cubicBezTo>
                  <a:pt x="14580" y="4326"/>
                  <a:pt x="14569" y="4337"/>
                  <a:pt x="14536" y="4366"/>
                </a:cubicBezTo>
                <a:cubicBezTo>
                  <a:pt x="14502" y="4396"/>
                  <a:pt x="14476" y="4394"/>
                  <a:pt x="14461" y="4440"/>
                </a:cubicBezTo>
                <a:cubicBezTo>
                  <a:pt x="14449" y="4475"/>
                  <a:pt x="14423" y="4505"/>
                  <a:pt x="14412" y="4539"/>
                </a:cubicBezTo>
                <a:cubicBezTo>
                  <a:pt x="14388" y="4613"/>
                  <a:pt x="14416" y="4726"/>
                  <a:pt x="14436" y="4787"/>
                </a:cubicBezTo>
                <a:cubicBezTo>
                  <a:pt x="14445" y="4814"/>
                  <a:pt x="14475" y="4876"/>
                  <a:pt x="14511" y="4887"/>
                </a:cubicBezTo>
                <a:cubicBezTo>
                  <a:pt x="14555" y="4900"/>
                  <a:pt x="14616" y="4907"/>
                  <a:pt x="14660" y="4911"/>
                </a:cubicBezTo>
                <a:cubicBezTo>
                  <a:pt x="14716" y="4916"/>
                  <a:pt x="14700" y="4900"/>
                  <a:pt x="14734" y="4862"/>
                </a:cubicBezTo>
                <a:cubicBezTo>
                  <a:pt x="14765" y="4828"/>
                  <a:pt x="14803" y="4808"/>
                  <a:pt x="14808" y="4762"/>
                </a:cubicBezTo>
                <a:cubicBezTo>
                  <a:pt x="14816" y="4691"/>
                  <a:pt x="14802" y="4646"/>
                  <a:pt x="14784" y="4589"/>
                </a:cubicBezTo>
                <a:cubicBezTo>
                  <a:pt x="14776" y="4564"/>
                  <a:pt x="14772" y="4513"/>
                  <a:pt x="14759" y="4490"/>
                </a:cubicBezTo>
                <a:cubicBezTo>
                  <a:pt x="14740" y="4457"/>
                  <a:pt x="14694" y="4419"/>
                  <a:pt x="14660" y="4415"/>
                </a:cubicBezTo>
                <a:cubicBezTo>
                  <a:pt x="14588" y="4407"/>
                  <a:pt x="14602" y="4415"/>
                  <a:pt x="14560" y="44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81760" y="1731960"/>
            <a:ext cx="79200" cy="730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14114" y="5011"/>
                </a:moveTo>
                <a:cubicBezTo>
                  <a:pt x="14146" y="4991"/>
                  <a:pt x="14286" y="4922"/>
                  <a:pt x="14312" y="4862"/>
                </a:cubicBezTo>
                <a:cubicBezTo>
                  <a:pt x="14312" y="4834"/>
                  <a:pt x="14314" y="4823"/>
                  <a:pt x="14337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91040" y="1598760"/>
            <a:ext cx="295200" cy="98280"/>
          </a:xfrm>
          <a:custGeom>
            <a:avLst/>
            <a:gdLst/>
            <a:ahLst/>
            <a:rect l="l" t="t" r="r" b="b"/>
            <a:pathLst>
              <a:path w="819" h="274">
                <a:moveTo>
                  <a:pt x="13891" y="4688"/>
                </a:moveTo>
                <a:cubicBezTo>
                  <a:pt x="13828" y="4656"/>
                  <a:pt x="13993" y="4620"/>
                  <a:pt x="14015" y="4614"/>
                </a:cubicBezTo>
                <a:cubicBezTo>
                  <a:pt x="14174" y="4571"/>
                  <a:pt x="14347" y="4530"/>
                  <a:pt x="14511" y="4514"/>
                </a:cubicBezTo>
                <a:cubicBezTo>
                  <a:pt x="14595" y="4506"/>
                  <a:pt x="14621" y="4527"/>
                  <a:pt x="14684" y="4490"/>
                </a:cubicBezTo>
                <a:cubicBezTo>
                  <a:pt x="14469" y="4490"/>
                  <a:pt x="14254" y="4490"/>
                  <a:pt x="14039" y="4490"/>
                </a:cubicBezTo>
                <a:cubicBezTo>
                  <a:pt x="14076" y="4434"/>
                  <a:pt x="14233" y="4442"/>
                  <a:pt x="14312" y="4440"/>
                </a:cubicBezTo>
                <a:cubicBezTo>
                  <a:pt x="14367" y="4439"/>
                  <a:pt x="14651" y="4428"/>
                  <a:pt x="14684" y="4490"/>
                </a:cubicBezTo>
                <a:cubicBezTo>
                  <a:pt x="14695" y="4510"/>
                  <a:pt x="14310" y="4539"/>
                  <a:pt x="14288" y="4539"/>
                </a:cubicBezTo>
                <a:cubicBezTo>
                  <a:pt x="14148" y="4541"/>
                  <a:pt x="14025" y="4537"/>
                  <a:pt x="13891" y="4514"/>
                </a:cubicBezTo>
                <a:cubicBezTo>
                  <a:pt x="13994" y="4471"/>
                  <a:pt x="14145" y="4490"/>
                  <a:pt x="14263" y="4490"/>
                </a:cubicBezTo>
                <a:cubicBezTo>
                  <a:pt x="14365" y="4490"/>
                  <a:pt x="14604" y="4488"/>
                  <a:pt x="14536" y="4564"/>
                </a:cubicBezTo>
                <a:cubicBezTo>
                  <a:pt x="14466" y="4643"/>
                  <a:pt x="14210" y="4654"/>
                  <a:pt x="14114" y="4663"/>
                </a:cubicBezTo>
                <a:cubicBezTo>
                  <a:pt x="14024" y="4672"/>
                  <a:pt x="13965" y="4681"/>
                  <a:pt x="13965" y="4638"/>
                </a:cubicBezTo>
                <a:cubicBezTo>
                  <a:pt x="14118" y="4638"/>
                  <a:pt x="14264" y="4647"/>
                  <a:pt x="14412" y="4663"/>
                </a:cubicBezTo>
                <a:cubicBezTo>
                  <a:pt x="14437" y="4663"/>
                  <a:pt x="14461" y="4663"/>
                  <a:pt x="14486" y="4663"/>
                </a:cubicBezTo>
                <a:cubicBezTo>
                  <a:pt x="14466" y="4742"/>
                  <a:pt x="14387" y="4713"/>
                  <a:pt x="14312" y="4713"/>
                </a:cubicBezTo>
                <a:cubicBezTo>
                  <a:pt x="14159" y="4713"/>
                  <a:pt x="14014" y="4673"/>
                  <a:pt x="13866" y="46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94200" y="136692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3717" y="3820"/>
                </a:moveTo>
                <a:cubicBezTo>
                  <a:pt x="13756" y="3810"/>
                  <a:pt x="13772" y="3795"/>
                  <a:pt x="13816" y="3795"/>
                </a:cubicBezTo>
                <a:cubicBezTo>
                  <a:pt x="13893" y="3795"/>
                  <a:pt x="13935" y="3822"/>
                  <a:pt x="13965" y="3894"/>
                </a:cubicBezTo>
                <a:cubicBezTo>
                  <a:pt x="14005" y="3992"/>
                  <a:pt x="13987" y="4113"/>
                  <a:pt x="13915" y="4192"/>
                </a:cubicBezTo>
                <a:cubicBezTo>
                  <a:pt x="13850" y="4264"/>
                  <a:pt x="13762" y="4311"/>
                  <a:pt x="13667" y="4316"/>
                </a:cubicBezTo>
                <a:cubicBezTo>
                  <a:pt x="13623" y="4316"/>
                  <a:pt x="13609" y="4319"/>
                  <a:pt x="13593" y="4291"/>
                </a:cubicBezTo>
                <a:cubicBezTo>
                  <a:pt x="13593" y="4222"/>
                  <a:pt x="13632" y="4222"/>
                  <a:pt x="13692" y="4192"/>
                </a:cubicBezTo>
                <a:cubicBezTo>
                  <a:pt x="13770" y="4153"/>
                  <a:pt x="13811" y="4182"/>
                  <a:pt x="13891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9040" y="140184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14337" y="3919"/>
                </a:moveTo>
                <a:cubicBezTo>
                  <a:pt x="14415" y="3919"/>
                  <a:pt x="14462" y="3900"/>
                  <a:pt x="14536" y="3894"/>
                </a:cubicBezTo>
                <a:cubicBezTo>
                  <a:pt x="14582" y="3890"/>
                  <a:pt x="14608" y="3955"/>
                  <a:pt x="14585" y="3994"/>
                </a:cubicBezTo>
                <a:cubicBezTo>
                  <a:pt x="14537" y="4077"/>
                  <a:pt x="14412" y="4100"/>
                  <a:pt x="14337" y="4142"/>
                </a:cubicBezTo>
                <a:cubicBezTo>
                  <a:pt x="14252" y="4190"/>
                  <a:pt x="14254" y="4192"/>
                  <a:pt x="14163" y="4192"/>
                </a:cubicBezTo>
                <a:cubicBezTo>
                  <a:pt x="14218" y="4169"/>
                  <a:pt x="14266" y="4159"/>
                  <a:pt x="14312" y="4118"/>
                </a:cubicBezTo>
                <a:cubicBezTo>
                  <a:pt x="14364" y="4072"/>
                  <a:pt x="14357" y="4111"/>
                  <a:pt x="14412" y="4142"/>
                </a:cubicBezTo>
                <a:cubicBezTo>
                  <a:pt x="14466" y="4173"/>
                  <a:pt x="14500" y="4184"/>
                  <a:pt x="14560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7240" y="1438200"/>
            <a:ext cx="54000" cy="8100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14982" y="4043"/>
                </a:moveTo>
                <a:cubicBezTo>
                  <a:pt x="14925" y="4043"/>
                  <a:pt x="14912" y="4056"/>
                  <a:pt x="14908" y="4118"/>
                </a:cubicBezTo>
                <a:cubicBezTo>
                  <a:pt x="14904" y="4172"/>
                  <a:pt x="14928" y="4211"/>
                  <a:pt x="14982" y="4217"/>
                </a:cubicBezTo>
                <a:cubicBezTo>
                  <a:pt x="15039" y="4223"/>
                  <a:pt x="15052" y="4199"/>
                  <a:pt x="15056" y="4142"/>
                </a:cubicBezTo>
                <a:cubicBezTo>
                  <a:pt x="15060" y="4076"/>
                  <a:pt x="15032" y="4018"/>
                  <a:pt x="14982" y="39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813-4F19-4824-BBC9-CCCCECECCB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amma emi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ma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rays are high energy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ma emission occurs when the nucleus rear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oss of particles from the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hange in the composition of the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atomic number and mass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occurs whenever the nucleus undergoes some other type of dec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217-FFCF-48CB-A154-B437A1FD35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ositron emi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ron has a charge of +1 c.u. and negligible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-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 atom loses a positron from the nucleus, 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remains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 decreases b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rons appear to result from a proton changing into a neu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257800" y="1752480"/>
                <a:ext cx="37018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 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808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 cap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33920"/>
            <a:ext cx="6781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ccurs when an inner orbital electron is pulled into the nucleu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particle emission, but atom chan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ame result as positron emi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ton combines with the electron to make a neutr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ss number stays the s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tomic number decreases by 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05520" y="4191120"/>
                <a:ext cx="38671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g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F3E-A090-454D-94CC-4B8090E44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rtificial Nuclear Trans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clear transformation involves changing one element into another by bombarding it with small nuclei, protons or neu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ion done in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icle accel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t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-m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uranium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47920" y="5029200"/>
                <a:ext cx="5879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U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4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064-9E7D-466C-8C32-69E78D7B3F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tecting Radioactiv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etect something, you need to identify something it 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active rays cause air to become io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iger-Müller Counter works by counting electrons generated when Ar gas atoms are ionized by radioactive 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active rays cause certain chemicals to give off a flash of light when they strike the chem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ntillation counter is able to count the number of flashes per min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B97-EC8D-4EF4-AED2-6C5435FBEE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15:44:43Z</dcterms:created>
  <dc:creator/>
  <dc:description/>
  <dc:language>en-US</dc:language>
  <cp:lastModifiedBy>FPS</cp:lastModifiedBy>
  <dcterms:modified xsi:type="dcterms:W3CDTF">2008-04-09T15:53:34Z</dcterms:modified>
  <cp:revision>4</cp:revision>
  <dc:subject/>
  <dc:title>No Slide Title</dc:title>
</cp:coreProperties>
</file>